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FE0-E6D8-4C0D-A18E-1D9137D7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C7A-AE47-455B-8651-1CED445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857-DF21-4849-A7C9-06462638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69C-A6C0-4B1D-8363-66A65039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3EE4-1322-4787-BDC7-FEB1804B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732B-EEA6-47AE-A7F2-417D5793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07CC-5AC1-42DC-9446-7E8AE425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3585-766C-442D-AE0C-172EB74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C64-1440-4E27-9580-4C2DA28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09EC-83A6-4C07-8B1D-5DEB52FF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FCF-AF4A-42CB-B408-6B4B4C5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E63-831C-4875-B80B-F01A399B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5C45-26EE-454A-AD43-F757A69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4CCA-ACA8-4C12-8AFF-286D40E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3886-186D-4EF6-A499-9D3DA8AC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AD71-01B2-4C63-9517-8A04990A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F97-4236-4A5F-BB4E-387CF3B4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247-BB07-4EB7-A883-4A90B366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6AE-F44B-4C09-BC51-32377206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B4B-24E6-442B-9EAA-08684B5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181-22E2-447E-A699-C3027CA8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FD9-690A-49B5-AE36-9736BA9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F89-8E2C-4C0E-8604-2666FC4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05C-8FC1-4965-BBB2-FFA2A3C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1F89-FA02-49BF-A1E9-695082AF3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346-BD58-497B-8EB5-B17E59400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tworked Information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ecur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8161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twork Physical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062080"/>
            <a:ext cx="891540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le server failure can severely affect network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cked in air-conditioned, alarmed room with barred windows, restricted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user access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nterruptible power supply (UPS) protects against blackouts, brownouts and voltage spi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le fire fighting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cked floppy disk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twork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05120"/>
            <a:ext cx="8077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names &amp;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swords are not strong protection – they can be guessed, forgotten or sto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stics of good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ometric identification actually establishes the identity of a user.  Used in high-security environ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ometric identification is useless if you are trying to authenticate yourself on a server across the glo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58920" y="549360"/>
            <a:ext cx="71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Security -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90512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&amp; software combination filtering data through an internet connection into an organisation’s intern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filters to examin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cking access to certain domain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nning certain protocols from accessing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s and phrases included in packet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ewalls use two separate NIC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twork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war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rus protec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 – adwa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0574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s data unreadable to unauthorised people even if a file is sto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on sensitive files on networks (e.g. password lists and secret doc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browsers use encryption to connect to a “Secure” SSL (Secure Socket Layers)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people encrypt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P, for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13:48Z</dcterms:created>
  <dc:creator>kel</dc:creator>
  <dc:description/>
  <dc:language>en-US</dc:language>
  <cp:lastModifiedBy>Kelvin Baird</cp:lastModifiedBy>
  <dcterms:modified xsi:type="dcterms:W3CDTF">2007-01-05T02:00:32Z</dcterms:modified>
  <cp:revision>31</cp:revision>
  <dc:subject/>
  <dc:title>PowerPoint Presentation</dc:title>
</cp:coreProperties>
</file>